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5593-553F-4B47-AAF8-C5518DB94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F7F5-C113-4EC8-A33E-1C936080C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81F9-F490-428C-B6BD-A735489FF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EC91-D89F-4689-AB6A-ACA15B37B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65D9-7A27-4331-98E0-31C950FA2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BE4E-458F-4603-A05E-7353D8846A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5372F-0A30-4CB5-892A-8FFF07C1D7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D435-377B-4C1F-8D2E-8EF0ACF2A6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013E-F3F3-49AF-AAB7-F89EF5AF79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38495-F8EF-44DC-AB96-8CF1F7B52F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F94C-BDBA-4029-8B4C-B4292E36B7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62606-5ACA-429A-80D2-4D2745CBB1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CE06-2D88-4878-B4CC-9895F78A33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C597-523B-4D18-A703-62AB083C47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F770-F340-4335-A7DC-128A09F217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E7C2-0923-4B11-9DDD-7A6E9066CF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8F6C-39DA-4033-8E10-6B5563798F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42B50-7E1A-4783-A3DF-489776C2C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E26E-62E8-464A-A101-1BBFAD682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C818-3EA0-47EA-8C7D-09EF322F7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843C-9600-43F4-BD57-9D6756978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1954-28D4-47BB-B3E1-464AA23F0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1EFB-FE62-4BDC-846E-8F0371D3F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E68D-8A07-4DAD-90C1-A683B1572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45520" y="6151320"/>
            <a:ext cx="341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D03CD-E444-4322-902D-0DF66B7206F6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1 MARS University of Nottingh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457560" y="6159600"/>
            <a:ext cx="76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a 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6916680" y="6151680"/>
            <a:ext cx="14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457200" y="2746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4"/>
          <p:cNvSpPr/>
          <p:nvPr/>
        </p:nvSpPr>
        <p:spPr>
          <a:xfrm>
            <a:off x="457200" y="9478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1 MARS University of Nottingh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457560" y="6159600"/>
            <a:ext cx="76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a 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916680" y="6151680"/>
            <a:ext cx="14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457200" y="2746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457200" y="9478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7248600" y="6161040"/>
            <a:ext cx="1054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1 MARS University of Nottingh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457560" y="6159600"/>
            <a:ext cx="76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a 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916680" y="6151680"/>
            <a:ext cx="14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57200" y="2746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457200" y="9478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2"/>
          </p:nvPr>
        </p:nvSpPr>
        <p:spPr>
          <a:xfrm>
            <a:off x="8372160" y="6151320"/>
            <a:ext cx="314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5BEC4-1DF0-4812-935D-1E02839C875F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Defining Regions Using Inequalities</a:t>
            </a:r>
            <a:r>
              <a:rPr b="1" lang="en-GB" sz="3200" spc="-1" strike="noStrike">
                <a:solidFill>
                  <a:srgbClr val="710e0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226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Hunting the Target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8345520" y="6151680"/>
            <a:ext cx="34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1E657-49EA-4C46-A37A-1FACFE2D78C1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570560" y="20779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6by6Grid.eps"/>
          <p:cNvPicPr/>
          <p:nvPr/>
        </p:nvPicPr>
        <p:blipFill>
          <a:blip r:embed="rId1"/>
          <a:stretch/>
        </p:blipFill>
        <p:spPr>
          <a:xfrm>
            <a:off x="1909800" y="1092240"/>
            <a:ext cx="55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Give Us a Clue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39" name="Slide Number Placeholder 2"/>
          <p:cNvSpPr/>
          <p:nvPr/>
        </p:nvSpPr>
        <p:spPr>
          <a:xfrm>
            <a:off x="8345520" y="6151680"/>
            <a:ext cx="34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0AB20-2243-42B0-AC02-FA1624D92C33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8by8Grid.eps"/>
          <p:cNvPicPr/>
          <p:nvPr/>
        </p:nvPicPr>
        <p:blipFill>
          <a:blip r:embed="rId1"/>
          <a:stretch/>
        </p:blipFill>
        <p:spPr>
          <a:xfrm>
            <a:off x="1911240" y="934920"/>
            <a:ext cx="51958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Playing the Game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42" name="Slide Number Placeholder 2"/>
          <p:cNvSpPr/>
          <p:nvPr/>
        </p:nvSpPr>
        <p:spPr>
          <a:xfrm>
            <a:off x="8345520" y="6151680"/>
            <a:ext cx="34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CDCE8-6413-4B84-8D12-581353472CF6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1112760"/>
            <a:ext cx="839628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9280" indent="-4492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of you will be the target picker and the other the target hu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arget picker decides on the position of the target and gives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u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giving clues, the target picker can use any inequality sign (≤, &lt;, ≥, &gt;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not the “=” sign. Try to give helpful clues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you give the clu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 them as a list on your mini-white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arget hunter uses the clues to find the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im of the game for both partners, is to find the target in the least number of 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h partners must use a blank grid to keep track of the clues that are gi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4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time a clue is given, shade out the region where the target cannot be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0:02:22Z</dcterms:created>
  <dc:creator>Nichola Clarke</dc:creator>
  <dc:description/>
  <cp:keywords/>
  <dc:language>en-US</dc:language>
  <cp:lastModifiedBy>Pead Daniel</cp:lastModifiedBy>
  <cp:lastPrinted>2010-10-21T12:22:38Z</cp:lastPrinted>
  <dcterms:modified xsi:type="dcterms:W3CDTF">2011-02-02T17:06:36Z</dcterms:modified>
  <cp:revision>18</cp:revision>
  <dc:subject/>
  <dc:title>Slide 0</dc:title>
</cp:coreProperties>
</file>